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871A-3957-42FE-A68C-5D4D3129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5B2-42B0-4083-BD42-6F98D540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6F6-B38D-403F-8B5D-4896FAAD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DC5-7579-465E-8FE2-3E18CC52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A378-8386-4C63-8FB8-13058A12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183D-1729-47F3-84DA-16300F85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816-2932-49F0-B2E6-F1193F20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DF02-BB2A-48EA-8C77-9D00C83C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77BB-68FE-4FBC-8B5F-C5EF4FDD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A6D2-405F-42C6-8D26-716C69BA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5635-327A-411B-A2EF-FDDF9A54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ADE-4AE3-486F-8F3B-9F141849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5C13-9C8A-4ADF-980E-D9E5B394C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thsisfun.com/graph/straight_line_graph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33336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Fatty"/>
              </a:rPr>
              <a:t>Ymarfer Amnewi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052640"/>
            <a:ext cx="8064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e </a:t>
            </a: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y = 2x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yfrifwch y os y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x = -2, x = 0 a x =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36360" y="3213000"/>
            <a:ext cx="871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x yw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entury Gothic"/>
              </a:rPr>
              <a:t>mewnbwn</a:t>
            </a: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entury Gothic"/>
              </a:rPr>
              <a:t>y yw’r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entury Gothic"/>
              </a:rPr>
              <a:t>allb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24000" y="620640"/>
            <a:ext cx="820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59280" y="1557360"/>
            <a:ext cx="3168360" cy="1942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4620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4620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620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764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2764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-2700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36360" y="7002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602560" y="836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98560" y="14842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42920" y="22114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42920" y="28591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403280" y="4076640"/>
          <a:ext cx="6000840" cy="1400400"/>
        </p:xfrm>
        <a:graphic>
          <a:graphicData uri="http://schemas.openxmlformats.org/drawingml/2006/table">
            <a:tbl>
              <a:tblPr/>
              <a:tblGrid>
                <a:gridCol w="1500120"/>
                <a:gridCol w="1500480"/>
                <a:gridCol w="1500120"/>
                <a:gridCol w="1500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1"/>
          </p:cNvPr>
          <p:cNvSpPr/>
          <p:nvPr/>
        </p:nvSpPr>
        <p:spPr>
          <a:xfrm>
            <a:off x="1835280" y="2133720"/>
            <a:ext cx="5761080" cy="30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Ymchwilio i linellau sy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620640"/>
            <a:ext cx="820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1557360"/>
            <a:ext cx="2449440" cy="19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620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4620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620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692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692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0692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33336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276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602560" y="22050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4842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22114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8591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1700280"/>
            <a:ext cx="24494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9280" y="1909800"/>
            <a:ext cx="2449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entury Gothic"/>
              </a:rPr>
              <a:t>x 1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91280" y="1557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91280" y="22845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91280" y="29322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403280" y="4076640"/>
          <a:ext cx="6000840" cy="1400400"/>
        </p:xfrm>
        <a:graphic>
          <a:graphicData uri="http://schemas.openxmlformats.org/drawingml/2006/table">
            <a:tbl>
              <a:tblPr/>
              <a:tblGrid>
                <a:gridCol w="1500120"/>
                <a:gridCol w="1500480"/>
                <a:gridCol w="1500120"/>
                <a:gridCol w="1500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620640"/>
            <a:ext cx="820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1557360"/>
            <a:ext cx="2449440" cy="19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620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4620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4620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692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0692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692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33336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349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8360" y="2276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98560" y="14842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22114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28591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1700280"/>
            <a:ext cx="24494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1909800"/>
            <a:ext cx="2449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entury Gothic"/>
              </a:rPr>
              <a:t>x 2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1280" y="1557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1280" y="22845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91280" y="29322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403280" y="4076640"/>
          <a:ext cx="6000840" cy="1400400"/>
        </p:xfrm>
        <a:graphic>
          <a:graphicData uri="http://schemas.openxmlformats.org/drawingml/2006/table">
            <a:tbl>
              <a:tblPr/>
              <a:tblGrid>
                <a:gridCol w="1500120"/>
                <a:gridCol w="1500480"/>
                <a:gridCol w="1500120"/>
                <a:gridCol w="1500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620640"/>
            <a:ext cx="820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59280" y="1557360"/>
            <a:ext cx="2449440" cy="19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620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4620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4620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0692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0692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0692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33336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-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276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17080" y="2276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14842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22114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28591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1700280"/>
            <a:ext cx="24494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59280" y="1909800"/>
            <a:ext cx="2449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entury Gothic"/>
              </a:rPr>
              <a:t>x -2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1280" y="1557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1280" y="22845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91280" y="29322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403280" y="4076640"/>
          <a:ext cx="6000840" cy="1400400"/>
        </p:xfrm>
        <a:graphic>
          <a:graphicData uri="http://schemas.openxmlformats.org/drawingml/2006/table">
            <a:tbl>
              <a:tblPr/>
              <a:tblGrid>
                <a:gridCol w="1500120"/>
                <a:gridCol w="1500480"/>
                <a:gridCol w="1500120"/>
                <a:gridCol w="1500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620640"/>
            <a:ext cx="820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59280" y="1557360"/>
            <a:ext cx="2449440" cy="19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4620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4620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4620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692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0692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692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33336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2x +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6360" y="21337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459640" y="22050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842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42920" y="22114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28591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1700280"/>
            <a:ext cx="24494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1909800"/>
            <a:ext cx="2449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entury Gothic"/>
              </a:rPr>
              <a:t>x 2 +1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1280" y="1557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91280" y="22845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91280" y="29322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403280" y="4076640"/>
          <a:ext cx="6000840" cy="1400400"/>
        </p:xfrm>
        <a:graphic>
          <a:graphicData uri="http://schemas.openxmlformats.org/drawingml/2006/table">
            <a:tbl>
              <a:tblPr/>
              <a:tblGrid>
                <a:gridCol w="1500120"/>
                <a:gridCol w="1500480"/>
                <a:gridCol w="1500120"/>
                <a:gridCol w="1500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620640"/>
            <a:ext cx="820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59280" y="1557360"/>
            <a:ext cx="2449440" cy="19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4620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4620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620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692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692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692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33336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-2x +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36360" y="21337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459640" y="22050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14842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22114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28591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59280" y="1700280"/>
            <a:ext cx="24494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1909800"/>
            <a:ext cx="244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entury Gothic"/>
              </a:rPr>
              <a:t>x -2 +1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1280" y="1557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91280" y="22845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1280" y="29322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403280" y="4076640"/>
          <a:ext cx="6000840" cy="1400400"/>
        </p:xfrm>
        <a:graphic>
          <a:graphicData uri="http://schemas.openxmlformats.org/drawingml/2006/table">
            <a:tbl>
              <a:tblPr/>
              <a:tblGrid>
                <a:gridCol w="1500120"/>
                <a:gridCol w="1500480"/>
                <a:gridCol w="1500120"/>
                <a:gridCol w="1500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620640"/>
            <a:ext cx="820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59280" y="1557360"/>
            <a:ext cx="2449440" cy="19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4620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4620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620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692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0692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0692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33336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-3x +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36360" y="21337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459640" y="22050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14842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22114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28591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59280" y="1700280"/>
            <a:ext cx="24494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1909800"/>
            <a:ext cx="244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entury Gothic"/>
              </a:rPr>
              <a:t>x -3 +1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36000" y="15638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91280" y="22845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46920" y="29322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403280" y="4076640"/>
          <a:ext cx="6000840" cy="1400400"/>
        </p:xfrm>
        <a:graphic>
          <a:graphicData uri="http://schemas.openxmlformats.org/drawingml/2006/table">
            <a:tbl>
              <a:tblPr/>
              <a:tblGrid>
                <a:gridCol w="1500120"/>
                <a:gridCol w="1500480"/>
                <a:gridCol w="1500120"/>
                <a:gridCol w="1500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4000" y="620640"/>
            <a:ext cx="8208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59280" y="1557360"/>
            <a:ext cx="2449440" cy="19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4620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620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4620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6920" y="184464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6920" y="256536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6920" y="3213000"/>
            <a:ext cx="15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333360"/>
            <a:ext cx="86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-3x +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36360" y="21337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459640" y="22050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14842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42920" y="22114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42920" y="28591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1700280"/>
            <a:ext cx="24494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59280" y="1909800"/>
            <a:ext cx="244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entury Gothic"/>
              </a:rPr>
              <a:t>x -3 +4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236000" y="15638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91280" y="22845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46920" y="29322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4076640"/>
          <a:ext cx="6000840" cy="1400400"/>
        </p:xfrm>
        <a:graphic>
          <a:graphicData uri="http://schemas.openxmlformats.org/drawingml/2006/table">
            <a:tbl>
              <a:tblPr/>
              <a:tblGrid>
                <a:gridCol w="1500120"/>
                <a:gridCol w="1500480"/>
                <a:gridCol w="1500120"/>
                <a:gridCol w="1500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18:37:15Z</dcterms:created>
  <dc:creator>Betsan Thomas</dc:creator>
  <dc:description/>
  <dc:language>en-US</dc:language>
  <cp:lastModifiedBy>Betsan Wyn Thomas</cp:lastModifiedBy>
  <dcterms:modified xsi:type="dcterms:W3CDTF">2008-06-10T21:13:19Z</dcterms:modified>
  <cp:revision>4</cp:revision>
  <dc:subject/>
  <dc:title>Slide 1</dc:title>
</cp:coreProperties>
</file>